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135A-9E16-45F1-8750-49FA23196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2144-C086-4D14-8C75-87DBB54A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B0B5-0106-43D7-B9DE-6C18C13F7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16D7-3844-4C78-BEC6-E4EC5361B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D934-A819-4C44-9FC9-C7A3C3662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FFEB-FEE7-4A10-BA67-A9230EE1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53469-5398-466D-9546-DC878B09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D383-9AB0-4E77-9236-B5227879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3A62-1CC6-4ED0-AE39-9A65C2D5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D179-F761-49C9-81A6-BC199923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D1BF-C86A-4F6F-9B6E-0B686D1E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275C-A8D9-4666-AB75-99B73CDC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780C-05EC-4308-A0A8-EF7886A4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6CB0-8A73-4B51-B3D9-84649ABE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108A-853A-45A2-B98C-8621C26D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8352-0D16-49A0-947B-84ED7FEDD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6A59-9CB8-42E9-99AD-3C5B6B44A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9189-247B-4371-9AC0-EA2F042C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8363-B8B4-4E85-8EDF-3CC8C5A1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C960-1233-43FD-91CF-A44DC866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B520-4FF4-43CF-AF57-64520BE6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F93C-A0F1-4CA6-B1BB-9D27F88E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698F-DC17-447D-8F7A-4351B355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40CA-CBE1-4B30-ADA7-CFDEB2F0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3743-366A-4243-A7AC-FA3E3936B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E3B1-0ADC-4950-8CBE-B4E231BED61E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arriet Tubman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Genr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ogra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y of person’s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ld by someone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arriet Tubman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ocabulary Instruc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438280"/>
            <a:ext cx="7772400" cy="36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n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have an idea or  plan of what you are going to do, you have an inten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riet Tubman’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ten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 to become a free sla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riet’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n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 to escape slavery even if she had to go al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arriet Tubman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ocabulary Instruc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n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ntio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arriet Tubman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ocabulary Instruc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uc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uct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do something, you do not really want to do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laves we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ucta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scape because it was dangerou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riet was no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ucta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sca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arriet Tubman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ocabulary Instruc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slave wanted t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lu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trollers,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ve mig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k away from the plantation in the early mo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st slave practices in the mar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at night and sleep undercover during the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 like a slave by working in the fiel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arriet Tubman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ocabulary Instruc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slave w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uct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escape,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ve mig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ver have an intention to esca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listen to people who try to persuade the slave to le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ieve that escaping would be dangero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clever plan for escaping into freed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225000" y="6734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arriet Tubman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ocabulary Instruc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slave had an intention to be free, the slave migh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others that trying to escape the plantation would be fool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and listen carefully to learn everything about free st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 bits of food and clo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pt the his/her life as a sl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arriet Tubman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eview of Passag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major eve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ape with broth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ape al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arriet Tubman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mprehension Skill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ppen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arriet Tubman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tell Sequenc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ape with br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ks to wo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an offers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ls s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arriet Tubman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quenc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ks to wo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man offers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ow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owner sells s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riet decides to e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uades brothers to join 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d brothers into the w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thers were afr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thers want to q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thers force Harriet  to q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riet decides to go al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arriet Tubman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Genr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 of BIG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ppen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ppen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arriet Tubman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genr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 of B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rriet Tubman: Conductor on the Underground Railr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ion of B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Glory over Every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arriet Tubman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ground Knowledg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533760" y="2017800"/>
            <a:ext cx="3068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arriet Tubma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22840" y="2017800"/>
            <a:ext cx="2490480" cy="4114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9136080" y="646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arriet Tubman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ackground knowledg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17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happen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arriet Tubman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ackground Knowledg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17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yland, 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as happening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Free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Slave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Free when reached free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Underground Railr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arriet Tubman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onunciation of words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ad by part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mediate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luct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su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din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os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arriet Tubman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ocabulary Instruction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ud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ver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u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meone, you avoid them or escape from them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unaway slav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ud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trollers who were hunting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vic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ud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lice for 10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playing hide and seek, Jo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ud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 other players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04:47:12Z</dcterms:created>
  <dc:creator>Archer Anita</dc:creator>
  <dc:description/>
  <dc:language>en-US</dc:language>
  <cp:lastModifiedBy>Archer Anita</cp:lastModifiedBy>
  <dcterms:modified xsi:type="dcterms:W3CDTF">2009-01-12T06:01:39Z</dcterms:modified>
  <cp:revision>1</cp:revision>
  <dc:subject/>
  <dc:title>Harriet Tubman    Genre</dc:title>
</cp:coreProperties>
</file>